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31D2-87B5-4B52-9D92-5281EC138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4341-1082-4824-AA7B-F6F9579B1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2DB8-B974-4251-9640-C779AB55D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8F79-2FFF-4DD9-858B-3CA1D368FE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4B2A-9427-4E9E-A549-1627B9FE1C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092E-512D-454C-B0D2-9BE6F2DA84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5FC6-3B0D-43DE-BB0C-8F0CC805D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EF1B-FD74-4A48-A256-202E91610A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9C19-3294-46BB-8BF5-636DAA683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E301-3A71-48C2-BFD2-86BFE9DE1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68E8-D595-4B58-90C8-DD1ACDD99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1B28-C2DC-429D-90A2-8F0D6BB51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0939-289A-4186-91F4-694A560FB0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1724-318B-488F-8331-7DB9588F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70AE-9B0A-4BB2-90BC-C95A2100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9BC2-F862-4DB8-89BD-0CA016FB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1467-248D-41A1-A3E1-E8E853D4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7891-1B68-40EA-84B0-3CC2ED99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CF98-50F7-48A4-AEBF-774FD7D7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8F1C-E664-4DB8-A560-E62EE2BD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A6D3-A737-4F1B-B058-FA381DF3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D3DC-8A0A-4408-88E0-95AD64D6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F160-501A-4F73-9BB6-D0238F85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0E83-587D-4F70-9A27-E937CDD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B9E1-24D1-4104-90FD-1EC05547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9849-1454-427D-9520-6B79322E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7B80-70F9-47CB-AD00-BAD0FD9C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B3A5-26B0-4DDB-AF84-24C43C8E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D166-B08F-48AB-AB5D-600B12F1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3866-15E8-4561-83DF-BF2A429D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04C3-A6E5-4633-8F50-2E48282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F1250-98EF-450F-8D6F-6A31DE9F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91366-B8E4-4F9A-9E68-B9758B18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2F9F-85EB-439B-A34E-105E57EE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9775-07E2-4F40-B0FF-8B9B4F4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88E7-2BB8-4999-B7F9-3535C064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62A5-555E-4B43-8C90-C3890B5E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A8C1-C449-4214-87C9-1836FCBA4F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81EC-1E36-4B34-92DF-D19247C1F8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4520" y="1642680"/>
            <a:ext cx="44672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Малые планеты      солнечн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Линкевич Ю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Балтий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пушня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да Анато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G:\100MEDIA\IMG_0747.JPG"/>
          <p:cNvPicPr/>
          <p:nvPr/>
        </p:nvPicPr>
        <p:blipFill>
          <a:blip r:embed="rId1"/>
          <a:stretch/>
        </p:blipFill>
        <p:spPr>
          <a:xfrm>
            <a:off x="928800" y="207180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ая «таинственная» пла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у иногда называют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одной из самых таин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планет Солнечной систе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тный облачный покров окутывает ее поверх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тмосфера на Венере была открыта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. В. Ломонос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блюд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 июня 176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ождение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диску Солнца, он заметил, что в начале про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Венера только небольшой частью нашл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лнечный диск,  возни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тонкое как волос сияние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кружив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диска планеты, еще не вступившей на солнечный дис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схождении Венеры с диск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появился на краю Солнца пупырь, который тем явстве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нялся, чем ближе Венера к выхождению приходил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и наблюдения послужили доказательством на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у Ве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[49]"/>
          <p:cNvPicPr/>
          <p:nvPr/>
        </p:nvPicPr>
        <p:blipFill>
          <a:blip r:embed="rId1"/>
          <a:stretch/>
        </p:blipFill>
        <p:spPr>
          <a:xfrm>
            <a:off x="7500960" y="1571760"/>
            <a:ext cx="164304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а и раз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769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 тех пор пока для исследований В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овались только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оптические телескоп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авалось измерить лишь верхнюю границу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тного облачного покрова, закрывающего поверх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неры. Появление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радиоинтерференционных метод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волило перейти к исследованию ее твер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верх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екторных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5 ± 0,1 к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 верхней границы обла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2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[49]"/>
          <p:cNvPicPr/>
          <p:nvPr/>
        </p:nvPicPr>
        <p:blipFill>
          <a:blip r:embed="rId1"/>
          <a:stretch/>
        </p:blipFill>
        <p:spPr>
          <a:xfrm>
            <a:off x="6500880" y="357120"/>
            <a:ext cx="2286000" cy="21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а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Фигура планеты близка к сфериче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кваториальной плоскости полу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липс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2,02 ± 0,1 км и 6050,99 ± 0,14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полуо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 54 ± 0,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м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щ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0 ± 120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вердой части Венеры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85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твердой поверхност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ваторе Венеры достиг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6 м/с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i[2]"/>
          <p:cNvPicPr/>
          <p:nvPr/>
        </p:nvPicPr>
        <p:blipFill>
          <a:blip r:embed="rId1"/>
          <a:stretch/>
        </p:blipFill>
        <p:spPr>
          <a:xfrm>
            <a:off x="6227640" y="333360"/>
            <a:ext cx="22878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оверхность Венеры преимущ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равнинная, обнаружены и возвыш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бласт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них представляет собой  огр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улканическое пла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чайшая вершина —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ора Максвел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 высота 12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пад высот вдоль экватора примерно 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шая точка на поверхности -на глубине 2,5 км от сред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поверхности обнаружены кратеры, разломы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знаки протекавших на ней интенсивных текто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цессов. Отчетливо просматриваются и следы уд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мбардир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верхность покрыта камнями и плитами разли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ов; поверхностные породы близки по составу к зем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[1]"/>
          <p:cNvPicPr/>
          <p:nvPr/>
        </p:nvPicPr>
        <p:blipFill>
          <a:blip r:embed="rId1"/>
          <a:stretch/>
        </p:blipFill>
        <p:spPr>
          <a:xfrm>
            <a:off x="6215040" y="54936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торые физические и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ие параметр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яя плот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951 г/с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ы пример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00 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вышает массу атмосферы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реобладающую долю атмосферы составля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лекислый газ ; азота водяного пара, кислород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В очень малых количествах имеются также примес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SO2, H2S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CO, HCl, H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лака Вен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т в основн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5-80-процен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центрация водяного пар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ивается с высо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я максимума на высоте около 50 км, где она в сто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ше, чем у твердой поверхности, то есть доля пара на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е приближается к одному процент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00 а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ь газа почти на два поряд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, чем в атмосфере Зем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i[1]"/>
          <p:cNvPicPr/>
          <p:nvPr/>
        </p:nvPicPr>
        <p:blipFill>
          <a:blip r:embed="rId1"/>
          <a:stretch/>
        </p:blipFill>
        <p:spPr>
          <a:xfrm>
            <a:off x="6500880" y="549360"/>
            <a:ext cx="24289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с и его 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арс, четвертая от Солнца,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Марса обращаются два спутника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об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) 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ейм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ж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б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50 км за 7 ч 39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500 км за 30 ч 17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а спутника имеют неправильную форму и всегда обращены к Мар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й и той же сторо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х максимальные раз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лину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ирину у Фобо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Дейм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витационные поля спутников настолько слабы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мосферы они не име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оверхности обнаружены метеоритные крат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Фобо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упнейш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ер Стик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иамет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i[14]"/>
          <p:cNvPicPr/>
          <p:nvPr/>
        </p:nvPicPr>
        <p:blipFill>
          <a:blip r:embed="rId1"/>
          <a:stretch/>
        </p:blipFill>
        <p:spPr>
          <a:xfrm>
            <a:off x="6643800" y="2142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Химический состав Марса типичен для планет Земной груп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онечно, существуют и специфические отлич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Здесь так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исходило раннее перераспределение вещества  п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действием гравитации, на что указывают сохранивш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еды первичной магматической деятельности. Несмотря,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ительно   низкую  температуру и низкую 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са богато железом и серой  невелико по разме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его радиус порядка 800-1000 км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масса — около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сятой всей массы план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я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одолжалос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ло миллиарда л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пало с периодом раннего вулканизма. Еще такой же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тельности период заняло частичное плавление мантий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икатов, сопровождавшееся интенсивными вулканически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ктоническими явл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i[12]"/>
          <p:cNvPicPr/>
          <p:nvPr/>
        </p:nvPicPr>
        <p:blipFill>
          <a:blip r:embed="rId1"/>
          <a:stretch/>
        </p:blipFill>
        <p:spPr>
          <a:xfrm>
            <a:off x="6286680" y="21420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5646600" y="2003400"/>
            <a:ext cx="18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3 млрд. лет наз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вершилс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период, и еще по крайней ме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чение миллиарда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долж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ктонические процес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же на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е охлаждение планеты, продолжающее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тия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гащена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ернистым желе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тные количества которого обнаружены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ных поверхностных породах, тогда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еталлического жел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метно ме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на других планетах Земн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лщина литосферы Марс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— нескольк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отен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включая примерн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ее к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тмосфера и вода на Мар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тмосфера на Марсе разрежена  и состоит из углекислого газа и малых доба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зота, аргона и кисл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я водяного пара невелика, и она меняется в зависимости от сез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ществование воды на Марсе — один из главных вопросов в изучении этой план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004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рсоход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Спирит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Оппортьюнит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казали наличие воды в проб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сианского грунта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ь все основания полагать, что воды на Марсе немал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рельефа напоминают выглаженные ледниками уча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дя по хорошей сохранности этих форм, не успевших ни разрушиться, ни покры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ющими наслоениями, они имеют относительно недавнее происхож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де же теперь марсианская вода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да существует и сейчас в виде мерзло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сьма низких температурах на поверхности Марса на любой откры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и воды быстро образуется толстая корка льда, которая, через корот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заносится пылью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агодаря низкой теплопроводимости льда под его толщей местами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таваться и жидкая вода и подледные потоки воды продолжают и теперь углуб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сла некоторых рек, мости льда под его толщей местами может оставатьс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идкая вода и, подледные потоки воды продолжают и теперь углублять ру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которых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584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7,99 млн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7млн. 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рса вокруг Сол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6,98 зе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т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скор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битального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,13 км/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ваториальный ради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рав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94 к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—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6,4 км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4 1023 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95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алые планеты солнечной систе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23640" y="4266720"/>
            <a:ext cx="686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ркурий, Венера, Земля, Ма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экват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76 м/с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ако раз в 15-17 лет происходит так называемое вели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отивостояние, когда  эти две планеты сближаются примерно на 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лн. км; последнее такое сближение имело место в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988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время великих противостояний Марс выглядит самой я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ездой на полуночном небе, оранжево-красного цвета, в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его стали считать атрибутом бога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 новый уровень исследований Марса начался в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96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их целей стали использоваться космические аппараты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 облетали планету, а затем и опускались на ее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С име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ественных спутник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бос и Дей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атмосферы: СО2 , N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СО,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Участки поверхности Марса, покрытые кратерами, похожи на лу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ате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5nil042i"/>
          <p:cNvPicPr/>
          <p:nvPr/>
        </p:nvPicPr>
        <p:blipFill>
          <a:blip r:embed="rId1"/>
          <a:stretch/>
        </p:blipFill>
        <p:spPr>
          <a:xfrm>
            <a:off x="5145120" y="3357720"/>
            <a:ext cx="3998880" cy="3240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15717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, третья от Солнца большая планета Солнеч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им уникальным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динственным во Вселенной природным условиям, Земля стала местом, где возникла и получила развитие органическая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 движется вокруг С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эллиптической орб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о отличающей о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508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, размеры 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е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8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 форме Земля близка к эллипсо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сплюснутому у полюсов и растянутому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экваториальной зо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1,032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56,777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ваториаль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8,160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976·1024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18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ижется вокруг Солн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 средней скор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,765 км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эллип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9,6 млн. к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иод одного обра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орб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5,24 солнечных су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щение Зем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круг собственной ос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292115·10-5 рад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и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,2 млн. км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, размеры 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движение Зем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у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яет соответственн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9,2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образу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териков и остр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а поднимается  над уровнем моря в среднем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75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ьшая высо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848 м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оры занимают свы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рхности суши. Пустыни покрывают окол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верх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ши, саванны и редколесья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са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дники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ши занято под сельскохозяйственными угодь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У Земли имеется единственный спутник — Лу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Ее орбита близка к окружности с радиусом около 384400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овременным космогон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ям Земля образо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6-4,7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из захвач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тяжением Солн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планетного обл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,5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никли условия, благоприятные дл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зникновения жи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5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ную роль в исследовании внутреннего строения Земли играют сейсмические мет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анные на исследовании распространения в ее толще упругих волн, возникающих при сейсм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обытиях — при естественных землетрясениях и в результате взры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я условно разделяют на три област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ра, мантия и 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слой —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ко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имеет среднюю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5 к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емной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континентальный и океанический; в переходной зоне от материка к оке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а кора промежуточного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лщина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няется в довольно широких пределах: океаническая кора имеет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е плотности составля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поверхности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грани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85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базаль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 глубину примерно от 35 до 2885 км простира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мант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тделяется от коры резкой границей глубже, которой скорости как продольных, так и попере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угих сейсмических волн, а также механическая плотность скачкообразно возраст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лотности 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величиваются по мере возрастания глубины примерно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3 до 9,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кор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обширные литосферные плиты влияющий на облик Зем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жидким. По современным представлениям 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 состо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серы и желе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с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12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йсмические методы обнаруживают наличие твердого внутреннего ядра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ю которого приходи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7% массы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центральной части Земли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0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ксимальная 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приближается 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0 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мальная составля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9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Плотность в центре Земли около </a:t>
            </a:r>
            <a:r>
              <a:rPr b="0" i="1" lang="ru-RU" sz="1400" spc="-1" strike="noStrike">
                <a:solidFill>
                  <a:srgbClr val="3333ff"/>
                </a:solidFill>
                <a:latin typeface="Arial"/>
              </a:rPr>
              <a:t>12,5 г/см3</a:t>
            </a: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 поверхностью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Земля окружена атм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жний ее сл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стирается в среднем до высоты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км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 в тропосфере падает с увеличением высо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й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55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трат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здесь температура возрастает с увели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ы. Выше находится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мез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над которой наблюдаются серебристые обла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омное значение имее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зо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лой озона, находящийся на высоте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ь 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8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ион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томы и молекулы в этом слое интенсивно ионизируются под действием солн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диации, ультрафиолетового излучения. Если бы не озоновый слой, потоки изл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ходили бы до поверхности Земли, производя разрушения в имеющихся там ж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рганизм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 расстояниях более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1000 км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газ настолько разрежен, что столкновения между молеку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ерестают играть существенную роль, а атомы ионизированы более чем наполов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ысоте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6 и 3,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диусов Земли находятся радиационные поя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витационное поле Земли с высокой точностью описывается законом всемирного тягот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ьютона. Земля обладает также магнитным и электрическим по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нитное поле над поверхностью Земли складывается из постоянной«главной» и перем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ей; последнюю обычно относят к вариациям магнитного поля. Главное магнитное поле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у, близкую к дипольно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ый дипольный мо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, равн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,98·1025 един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яженности магнитного по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северном и южном магнитных полюсах рав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58 и 0,68 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на геомагнитном экваторе — около 0,4 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над поверхностью Земли в среднем имеет напряженность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В/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о вертикально вниз — это так называемо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сной погоды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о это поле испыты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ительные вари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Естественный спутни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и 384 4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орбиты к плоскости эклиптики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 °8 ¢43 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,35 .1022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радиус Луны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38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62 м/с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лотность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343 кг/м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,3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д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9,5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ветит отраженным солнечным светом, визуальное сферическое альбедо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0,7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верхность Луны в основном гориста, покрыта многочисленными крат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дарного происхожд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ный грунт — регол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Лу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-400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тное поле £ 4 г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Первый человек ступил на поверхность Луны 21 июля 196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_533i"/>
          <p:cNvPicPr/>
          <p:nvPr/>
        </p:nvPicPr>
        <p:blipFill>
          <a:blip r:embed="rId1"/>
          <a:stretch/>
        </p:blipFill>
        <p:spPr>
          <a:xfrm>
            <a:off x="5715000" y="260280"/>
            <a:ext cx="300528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Луне даже невооруженным глазом различимы т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ельно ровные участки, называемые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орям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разделяющие их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етлые —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атерик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континенты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долю послед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ходится немногим бол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лощади поверхности Лу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рхность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ков» гориста, ее уровень выше, чем у «морей»,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ность средних высот достига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3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Уровень в круговых «морях»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йонах несколько повышенной плотности лунной породы обычно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на километр ниже, чем у «морей» неправильной формы и уступает 4 к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й высоте «материков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Поверхность Луны покрыта большим числом кольцевых структур — кольце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горами и кратерами ударного происхо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Видимые на поверхности линейные структуры — бороз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разломы и складки — являются свидетельствами тектонических процесс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_536i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651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Луна движется вокруг Земли по почти эллиптической орбите со средней линей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скоростью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683 км/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 Зем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33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ксимально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55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скость орби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наклонена к плоскости эклиптики на уго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°08'43'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рбитального движ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,32166 земных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что совпадает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периодом осевого обращения Луны, благодаря этому Луна всегда обращена 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Земле одним и тем же полушари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з-за того что движение Луны по орбите не является равномерным, а также из-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клона плоскости экватора к плоскости ее орбиты, с Земли можно наблюд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сколько более чем половину поверх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Лу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относительно Солнца 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,53 сут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ый д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ая ноч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лятся почти п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течение лунного дня поверхность Луны нагревается, а ночью охлаждает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 этом температура на поверхности Луны меняется от 400 до 100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еркурий, ближайшая к Солн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большая планета Солнечной систем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раметры движения план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,387 астроном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иц (58 млн. км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88 су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в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8,6 су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 ди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4878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·1023 кг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айне разрежена и состоит из 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r, Ne, 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Поверхность Меркурия по внешнему виду  подобна лунной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ht69(1)[1]"/>
          <p:cNvPicPr/>
          <p:nvPr/>
        </p:nvPicPr>
        <p:blipFill>
          <a:blip r:embed="rId1"/>
          <a:stretch/>
        </p:blipFill>
        <p:spPr>
          <a:xfrm>
            <a:off x="6659640" y="26028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состав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тность лунных пород составляет в среднем 3,343 г/см3, что заметно уступ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ней плотности для Земл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ются и различия в минералогическом составе лунных и земных пород: содерж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ксидов уплотнение вещества с глубиной проявляется на Земле значительно заметне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м на железа в лунных базальтах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%,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а титана —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выше, чем в зем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орские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 на Луне отличаются повышенным содержанием оксидов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алюми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каль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тносительно более высокой плотностью, что связывают с их глубин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ждением.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ля исследования строения Луны использ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ейсмические мет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рхностный слой — лунная кора имеет состав, близкий к составу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атериков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корой располагается верхняя мантия — слой толщиной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глубже — средняя мантия толщиной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м слое в результате частичного вплавления формир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морск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0-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глубокофокусные лунные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ейсмические очаг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е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нчается литосфера и начинается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лунная асте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лавленный слой, в котором, могут распространяться только продольные сейс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ны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рхней части астеносферы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00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глуби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80-157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исходит резкое изменение скорости продольных волн — зд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ходит граница пятой зоны — ядра Луны. Поверхностный довольно рыхлый слой Лу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стоит из пород, раздробленных постоянным потоком падающих на нее твердых тел —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метеоритов и пыли до крупных частиц — многотонных метеоритов и астероид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поверхностью Луны газовая атмосфера как таковая отсутствует, так как не 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иваться Луной вследствие ее малой массы.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В результате даже легчайшие атомы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х тепловых скоростях способны преодолевать притяжение Лун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поля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иболее тщательно исследовалось гравитационное поле Луны, что объясняется не тольк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требностями космонавтики, но и дает важную информацию об особенностях строения Лу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и исследования выявили нецентральность гравитационного поля, обусло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днородностью плотности не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Луны состави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,623 м/с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ое 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уны является весьма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лаб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оставляе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гнитного поля Зем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у поверхности Луны не измерялось, но существуют теоре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ания на то, что из-за значительного приливного воздействия со стороны Земли вну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ны должно произойти перераспределение электрических зарядов, приводяще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ю над ее поверхностью электрического поля с напряженностью в некоторых точ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киловольта на 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уна светит отраженным солнечным светом; визуальное сферическое альбедо равн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,075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 есть Луна отражает все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адающих на нее солнечных световых луч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Отражение падающего от внешнего источника света довольно заметно преобладает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направлении к этому источнику; по этой причине Луна ярче всего в полнолу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обственное тепловое излучение Луны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и ракет на Лу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2 января 1959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в СССР было осуществлен запуск первой в мире авто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жпланетной станции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Луна– 1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ссой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1472 к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летела вблиз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ы на расстоянии меньше 6000 км от её поверхности и, выйд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елиоцентрическую орбиту, стала первой в мире искусственной планет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лнечной систе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Сентябрь 1959 г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стоялся новый старт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–2 » .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чта фантастов сбылась: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зданный человеком аппарат впервые достиг другого небесного тел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октябре 1959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космическое путешествие отправился следую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ник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 3 »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явились первые фотографии обратной стороны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сент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16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вершила мягкую посадку в район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ря Изобилия, произвела и взятие образцов гру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но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17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на её поверхность передвиж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1 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феврале 1972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экспедицию на Луну отправился следующий космическ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-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0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Эта станция доставила на Землю образец лунного грунта и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руднодоступного горного райо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1973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1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внутрь кратера Лемонье у восточ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раницы Моря  Ясности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2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.Возникли панорамы нашей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ёты по программ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Аполл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 летательным аппаратом, доставившим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Луны, был американский космический кораб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 Аполлон – 11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ёт состоялся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6 июля 1969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кабинете кораб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3 астронавт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 Армстронг Н. Армстронг, М. Коллин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Э. Олдр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1 июля в 5ч 56мин на поверхность Луны вступил первый 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Армстронг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к нему присоединился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Олд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оставили на Луне телевизионные и фотокамеры, инстр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бора лунных камней, ранцевые системы жизнеобеспеч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ое снаря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Н. Армстронг: « Из лунной кабины небо казалось черным, но на Луне было светло, как днём, и поверхность её была рыжевато-коричневой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_536i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Это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есн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Чело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есивший на Земле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80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ь на Луне около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3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опав на Луну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в свою мускульную силу, он с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ть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ше или дальше, ч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е, поднимать тяжести,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льшие, 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я с высоты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5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причинять себе вр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6200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Меркурий движется вокруг Солнца по с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ытянутой эллиптической орб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солнечных су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а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Меркурия от Зем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2 до 217 млн.к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няя скорость дви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круг Солнц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,89 км/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На Меркурии распределение масс не является ст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концентрическим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щение вокруг Солнца и его собственное в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одят к тому, что длительность солнечных суто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ете равна трем звездным меркурианским суткам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м меркурианским годам и со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5,92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erkuri[1]"/>
          <p:cNvPicPr/>
          <p:nvPr/>
        </p:nvPicPr>
        <p:blipFill>
          <a:blip r:embed="rId1"/>
          <a:stretch/>
        </p:blipFill>
        <p:spPr>
          <a:xfrm>
            <a:off x="6588000" y="476280"/>
            <a:ext cx="23529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меры, форма и масса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По форме  планета близка к шару с экватори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радиусом (2440 ± 2)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8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    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,8 раз 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составляе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44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поверхност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7 м/с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ость полуос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кваториального эллипса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лонения геометрического центра планеты от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сс — порядка полутора киломе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[24]"/>
          <p:cNvPicPr/>
          <p:nvPr/>
        </p:nvPicPr>
        <p:blipFill>
          <a:blip r:embed="rId1"/>
          <a:stretch/>
        </p:blipFill>
        <p:spPr>
          <a:xfrm>
            <a:off x="6786720" y="571680"/>
            <a:ext cx="1979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91908E-006 C -0.01336 -0.2874 -0.02656 -0.5748 -0.02222 -0.57087 C -0.01788 -0.56694 0.01841 -0.07006 0.02552 0.02335 C 0.03264 0.11676 0.02084 -0.01203 0.02066 -0.01064 C 0.02049 -0.00925 0.02223 0.01109 0.02396 0.03167 E">
                                      <p:cBhvr>
                                        <p:cTn id="8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пература и рельеф    поверхности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8996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Меркурий получает от центрального светила значительно большое количество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Из-за вытянутости орбиты поток энергии от Солнца варьируется примерно в два р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льшая продолжительность дня и ночи приводит к тому, что проявляются яркостные температуры на «дневной» и на «ночной» сторонах поверхности Меркурия (температура может изменяться примерно от 600 К до 100 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верхность Меркурия, покрытая раздробленным веществом базальтового типа, довольно темна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наблюдениям с Земли, поверхность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еркур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целом похожа на поверхность Луны, хотя контраст между темными и светлыми участками выражен слабее. Наряду с кратерами есть холмы и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[33]"/>
          <p:cNvPicPr/>
          <p:nvPr/>
        </p:nvPicPr>
        <p:blipFill>
          <a:blip r:embed="rId1"/>
          <a:stretch/>
        </p:blipFill>
        <p:spPr>
          <a:xfrm>
            <a:off x="6443640" y="333360"/>
            <a:ext cx="244800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мосфера и физические п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 поверхностью Меркурия имеются следы весьма разреж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тмосферы, содержащей гелий, водород,  углекислый газ, угле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ислород и благород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Близость Солнца обусловливает ощутимое влияние на Мерку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солнечного ветра. Благодаря этой близости воздействие Солнц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Меркурий, должно приводить к возникновению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ланеты электрического поля, напряженность которого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римерно вдвое больше, чем у  «поля ясной погоды»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Земли, и отличается от последнего сравнительной стаби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Меркурии имеется  магнитное п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[35]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686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нера, вторая от Солнца и ближайшая  к Земле большая 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олнеч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ы движения план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расстояние от Солнца 0,72 а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24,7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ения                243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радиус     6050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      4,9 . 1024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а: CO2 (97%), N2 (ок. 3%), H2O (0,05%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си CO, SO2, HCl, H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 у поверхности    750 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ление 107 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 поверхности Венеры обнаружены горы, кратеры,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Поверхностные породы Венеры близки по составу к земным 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а почти целиком состоит из углекислого газа (около 96%), а азота 3,2%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[4]"/>
          <p:cNvPicPr/>
          <p:nvPr/>
        </p:nvPicPr>
        <p:blipFill>
          <a:blip r:embed="rId1"/>
          <a:stretch/>
        </p:blipFill>
        <p:spPr>
          <a:xfrm>
            <a:off x="6588000" y="2421000"/>
            <a:ext cx="22021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979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Венера движется вокруг Солнца по орб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располагающейся между орбитами Меркурия 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енера — единственная планета Солнечной системы, 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ращение которой противоположно направлению ее обращения вокруг 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собственного вращения близок к 243 земным сут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-за  «обратного» направления вращения Венеры длительность солнечных суток на ней в 116,8 раз больше, чем на Земле, так что за один  венерианский год восход и заход Солнца на Венере происходит всего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е от Венеры до Земли изменяется от 38 млн. км до 258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скорость движения по орбите 34,99 к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енера — наиболее яркое светило земного не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максимуме блеска она достигает -4,4 звезд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[32]"/>
          <p:cNvPicPr/>
          <p:nvPr/>
        </p:nvPicPr>
        <p:blipFill>
          <a:blip r:embed="rId1"/>
          <a:stretch/>
        </p:blipFill>
        <p:spPr>
          <a:xfrm>
            <a:off x="6858000" y="260280"/>
            <a:ext cx="16048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0:13:09Z</dcterms:created>
  <dc:creator>саша</dc:creator>
  <dc:description/>
  <dc:language>en-US</dc:language>
  <cp:lastModifiedBy>Name</cp:lastModifiedBy>
  <dcterms:modified xsi:type="dcterms:W3CDTF">2010-09-23T12:06:05Z</dcterms:modified>
  <cp:revision>31</cp:revision>
  <dc:subject/>
  <dc:title>Малы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7000000000001024140</vt:lpwstr>
  </property>
</Properties>
</file>